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E1470-AA8E-437C-B8BD-E4DCF8173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9C7F3-7DA6-495C-BC3B-3E350C406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0492B-2D20-4ABD-BAE8-697D1C6E4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94A40-A64B-4B7C-B12E-CCE081E6A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770F3-36A0-446F-BFB1-8B185A62E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9BF8D-C717-4F16-8DA6-8FF56555B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3C7D2-FD41-4E75-B73F-80600A6E9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21FCA-8D26-45B7-8C08-DC1521C5F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7F77B-D017-4278-A802-FFD3F2E97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3C618-84D5-4BBA-9A9E-F1E08EE13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9D38F-ED83-4CFA-ADA8-A1AEBB6A9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719B7-A84C-4B8D-AE5A-E82EDDC86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177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08DE4-1D05-4987-872E-B148C0BC3E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177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908000" y="260280"/>
            <a:ext cx="556452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177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ff5bc3"/>
                </a:solidFill>
                <a:latin typeface="Comic Sans MS"/>
              </a:rPr>
              <a:t>Aufbauseminar für Extremführungskräf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5bc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5bc3"/>
                </a:solidFill>
                <a:latin typeface="Comic Sans MS"/>
              </a:rPr>
              <a:t>Reputationssteiger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5bc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5bc3"/>
                </a:solidFill>
                <a:latin typeface="Comic Sans MS"/>
              </a:rPr>
              <a:t>Leicht verständl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5bc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5bc3"/>
                </a:solidFill>
                <a:latin typeface="Comic Sans MS"/>
              </a:rPr>
              <a:t>Einfach ein gutes Gefüh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177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5bc3"/>
                </a:solidFill>
                <a:latin typeface="Comic Sans MS"/>
              </a:rPr>
              <a:t>Lachsemin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2484360" y="2276640"/>
            <a:ext cx="3888000" cy="216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Live!!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65" name=""/>
          <p:cNvSpPr/>
          <p:nvPr/>
        </p:nvSpPr>
        <p:spPr>
          <a:xfrm>
            <a:off x="4111920" y="5516640"/>
            <a:ext cx="82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ff5bc3"/>
                </a:solidFill>
                <a:latin typeface="Comic Sans MS"/>
              </a:rPr>
              <a:t>De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177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5bc3"/>
                </a:solidFill>
                <a:latin typeface="Comic Sans MS"/>
              </a:rPr>
              <a:t>Haustierhaltu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619280" y="1341360"/>
            <a:ext cx="5699160" cy="42753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 rot="19746600">
            <a:off x="3782160" y="3328560"/>
            <a:ext cx="236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5400" spc="-1" strike="noStrike">
                <a:solidFill>
                  <a:srgbClr val="ff5bc3"/>
                </a:solidFill>
                <a:latin typeface="Comic Sans MS"/>
              </a:rPr>
              <a:t>Falsch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177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5bc3"/>
                </a:solidFill>
                <a:latin typeface="Comic Sans MS"/>
              </a:rPr>
              <a:t>Haustierhaltu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116000" y="1197000"/>
            <a:ext cx="6418440" cy="48132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 rot="20278200">
            <a:off x="3391560" y="3298680"/>
            <a:ext cx="252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5400" spc="-1" strike="noStrike">
                <a:solidFill>
                  <a:srgbClr val="ff5bc3"/>
                </a:solidFill>
                <a:latin typeface="Comic Sans MS"/>
              </a:rPr>
              <a:t>Richtig</a:t>
            </a:r>
            <a:r>
              <a:rPr b="0" lang="en-IE" sz="4000" spc="-1" strike="noStrike">
                <a:solidFill>
                  <a:srgbClr val="ff5bc3"/>
                </a:solidFill>
                <a:latin typeface="Comic Sans MS"/>
              </a:rPr>
              <a:t>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177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5bc3"/>
                </a:solidFill>
                <a:latin typeface="Comic Sans MS"/>
              </a:rPr>
              <a:t>Haustierhaltu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547640" y="1197000"/>
            <a:ext cx="5986800" cy="448956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 rot="20048400">
            <a:off x="3578400" y="2620440"/>
            <a:ext cx="2567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5400" spc="-1" strike="noStrike">
                <a:solidFill>
                  <a:srgbClr val="ff5bc3"/>
                </a:solidFill>
                <a:latin typeface="Comic Sans MS"/>
              </a:rPr>
              <a:t>Richtig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177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5bc3"/>
                </a:solidFill>
                <a:latin typeface="Comic Sans MS"/>
              </a:rPr>
              <a:t>Haustierhaltu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835280" y="1413000"/>
            <a:ext cx="5483160" cy="41130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 rot="19842000">
            <a:off x="3442320" y="4076280"/>
            <a:ext cx="307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5400" spc="-1" strike="noStrike">
                <a:solidFill>
                  <a:srgbClr val="ff5bc3"/>
                </a:solidFill>
                <a:latin typeface="Comic Sans MS"/>
              </a:rPr>
              <a:t>FATAL!!!!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177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5bc3"/>
                </a:solidFill>
                <a:latin typeface="Comic Sans MS"/>
              </a:rPr>
              <a:t>Drehstuhlbenutzu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2340000" y="1197000"/>
            <a:ext cx="2546280" cy="478944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5235480" y="2781360"/>
            <a:ext cx="2567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5400" spc="-1" strike="noStrike">
                <a:solidFill>
                  <a:srgbClr val="ff5bc3"/>
                </a:solidFill>
                <a:latin typeface="Comic Sans MS"/>
              </a:rPr>
              <a:t>Richtig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177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5bc3"/>
                </a:solidFill>
                <a:latin typeface="Comic Sans MS"/>
              </a:rPr>
              <a:t>Drehstuhlbenutzu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4859280" y="1557360"/>
            <a:ext cx="2671920" cy="448308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1609920" y="2803680"/>
            <a:ext cx="236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5400" spc="-1" strike="noStrike">
                <a:solidFill>
                  <a:srgbClr val="ff5bc3"/>
                </a:solidFill>
                <a:latin typeface="Comic Sans MS"/>
              </a:rPr>
              <a:t>Falsch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177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5bc3"/>
                </a:solidFill>
                <a:latin typeface="Comic Sans MS"/>
              </a:rPr>
              <a:t>Das Ding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5bc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5bc3"/>
                </a:solidFill>
                <a:latin typeface="Comic Sans MS"/>
              </a:rPr>
              <a:t>Langzeiterprob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5bc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5bc3"/>
                </a:solidFill>
                <a:latin typeface="Comic Sans MS"/>
              </a:rPr>
              <a:t>Geruchsneut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5bc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5bc3"/>
                </a:solidFill>
                <a:latin typeface="Comic Sans MS"/>
              </a:rPr>
              <a:t>Neue, verbesserte Rezept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5bc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5bc3"/>
                </a:solidFill>
                <a:latin typeface="Comic Sans MS"/>
              </a:rPr>
              <a:t>Jetzt auch in “Arghlhg” und klassisch “PVC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177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5bc3"/>
                </a:solidFill>
                <a:latin typeface="Comic Sans MS"/>
              </a:rPr>
              <a:t>Herzlich Wilkommen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5bc3"/>
                </a:solidFill>
                <a:latin typeface="Comic Sans MS"/>
              </a:rPr>
              <a:t>Umbrella Inc begrüß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5bc3"/>
                </a:solidFill>
                <a:latin typeface="Comic Sans MS"/>
              </a:rPr>
              <a:t>S.C.H.U.F.T</a:t>
            </a:r>
            <a:r>
              <a:rPr b="0" lang="en-IE" sz="3200" spc="-1" strike="noStrike">
                <a:solidFill>
                  <a:srgbClr val="ff5bc3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177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5bc3"/>
                </a:solidFill>
                <a:latin typeface="Comic Sans MS"/>
              </a:rPr>
              <a:t>Z.O.M.B.I.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5bc3"/>
                </a:solidFill>
                <a:latin typeface="Comic Sans MS"/>
              </a:rPr>
              <a:t>Zentral Optimierende Motorik &amp; Benimm Integrations Einhe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5bc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5bc3"/>
                </a:solidFill>
                <a:latin typeface="Comic Sans MS"/>
              </a:rPr>
              <a:t>Einfach in der Anwendu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5bc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5bc3"/>
                </a:solidFill>
                <a:latin typeface="Comic Sans MS"/>
              </a:rPr>
              <a:t>Zeitspar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5bc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5bc3"/>
                </a:solidFill>
                <a:latin typeface="Comic Sans MS"/>
              </a:rPr>
              <a:t>Fragen Sie nach unserem Mengenrabat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177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5bc3"/>
                </a:solidFill>
                <a:latin typeface="Comic Sans MS"/>
              </a:rPr>
              <a:t>Orbitaler Habitats-Modula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5bc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5bc3"/>
                </a:solidFill>
                <a:latin typeface="Comic Sans MS"/>
              </a:rPr>
              <a:t>Vielseitig Anwendb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5bc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5bc3"/>
                </a:solidFill>
                <a:latin typeface="Comic Sans MS"/>
              </a:rPr>
              <a:t>Sparsam im Verbrauch </a:t>
            </a:r>
            <a:r>
              <a:rPr b="0" lang="en-IE" sz="1600" spc="-1" strike="noStrike">
                <a:solidFill>
                  <a:srgbClr val="ff5bc3"/>
                </a:solidFill>
                <a:latin typeface="Comic Sans MS"/>
              </a:rPr>
              <a:t>(FXTD-2342 N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5bc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5bc3"/>
                </a:solidFill>
                <a:latin typeface="Comic Sans MS"/>
              </a:rPr>
              <a:t>In drei frei wählbaren Stuf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5bc3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5bc3"/>
                </a:solidFill>
                <a:latin typeface="Comic Sans MS"/>
              </a:rPr>
              <a:t>Angenehm w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5bc3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5bc3"/>
                </a:solidFill>
                <a:latin typeface="Comic Sans MS"/>
              </a:rPr>
              <a:t>Tropische Cocktailpar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5bc3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5bc3"/>
                </a:solidFill>
                <a:latin typeface="Comic Sans MS"/>
              </a:rPr>
              <a:t>Schreiend schmelzender Hitzetod 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5bc3"/>
                </a:solidFill>
                <a:latin typeface="Comic Sans MS"/>
              </a:rPr>
              <a:t>*</a:t>
            </a:r>
            <a:r>
              <a:rPr b="0" lang="en-IE" sz="1600" spc="-1" strike="noStrike">
                <a:solidFill>
                  <a:srgbClr val="ff5bc3"/>
                </a:solidFill>
                <a:latin typeface="Comic Sans MS"/>
              </a:rPr>
              <a:t>leider noch in einigen altmodischen Sonnensystemen verbo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177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ff5bc3"/>
                </a:solidFill>
                <a:latin typeface="Comic Sans MS"/>
              </a:rPr>
              <a:t>Fernbedienung für Meteoriten-Abwehr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5bc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5bc3"/>
                </a:solidFill>
                <a:latin typeface="Comic Sans MS"/>
              </a:rPr>
              <a:t>Umweltfreundl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5bc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5bc3"/>
                </a:solidFill>
                <a:latin typeface="Comic Sans MS"/>
              </a:rPr>
              <a:t>Raumoptimie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5bc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5bc3"/>
                </a:solidFill>
                <a:latin typeface="Comic Sans MS"/>
              </a:rPr>
              <a:t>Zerstört Meteoriten bis Planetengröß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5bc3"/>
                </a:solidFill>
                <a:latin typeface="Comic Sans MS"/>
              </a:rPr>
              <a:t>*</a:t>
            </a:r>
            <a:r>
              <a:rPr b="0" lang="en-IE" sz="1800" spc="-1" strike="noStrike">
                <a:solidFill>
                  <a:srgbClr val="ff5bc3"/>
                </a:solidFill>
                <a:latin typeface="Comic Sans MS"/>
              </a:rPr>
              <a:t>gegen geringen Aufpreis liefern wir Ihnen die passende Abwehranl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177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5bc3"/>
                </a:solidFill>
                <a:latin typeface="Comic Sans MS"/>
              </a:rPr>
              <a:t>Freizeitmo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547280" y="6165360"/>
            <a:ext cx="55436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5bc3"/>
                </a:solidFill>
                <a:latin typeface="Comic Sans MS"/>
              </a:rPr>
              <a:t>Künstlich, sicher, sauber</a:t>
            </a:r>
            <a:r>
              <a:rPr b="0" lang="en-IE" sz="2800" spc="-1" strike="noStrike">
                <a:solidFill>
                  <a:srgbClr val="ff5bc3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1042920" y="1413000"/>
            <a:ext cx="6408720" cy="4649760"/>
            <a:chOff x="1042920" y="1413000"/>
            <a:chExt cx="6408720" cy="4649760"/>
          </a:xfrm>
        </p:grpSpPr>
        <p:pic>
          <p:nvPicPr>
            <p:cNvPr id="53" name="" descr=""/>
            <p:cNvPicPr/>
            <p:nvPr/>
          </p:nvPicPr>
          <p:blipFill>
            <a:blip r:embed="rId1"/>
            <a:stretch/>
          </p:blipFill>
          <p:spPr>
            <a:xfrm>
              <a:off x="1042920" y="1413000"/>
              <a:ext cx="6408720" cy="464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1116000" y="2708280"/>
              <a:ext cx="720720" cy="503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1800" spc="-1" strike="noStrike">
                  <a:solidFill>
                    <a:srgbClr val="000000"/>
                  </a:solidFill>
                  <a:latin typeface="Arial"/>
                </a:rPr>
                <a:t>Se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177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11280" y="350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5400" spc="-1" strike="noStrike">
                <a:solidFill>
                  <a:srgbClr val="ff5bc3"/>
                </a:solidFill>
                <a:latin typeface="Comic Sans MS"/>
              </a:rPr>
              <a:t>Vogonen-Specia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1258920" y="981000"/>
            <a:ext cx="273672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NEU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177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5bc3"/>
                </a:solidFill>
                <a:latin typeface="Comic Sans MS"/>
              </a:rPr>
              <a:t>Vogonisches Poesiezimm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5bc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5bc3"/>
                </a:solidFill>
                <a:latin typeface="Comic Sans MS"/>
              </a:rPr>
              <a:t>Ideal geeignet für die Haltung galonkianischer Schwarzmor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5bc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5bc3"/>
                </a:solidFill>
                <a:latin typeface="Comic Sans MS"/>
              </a:rPr>
              <a:t>Einfach im Einba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5bc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5bc3"/>
                </a:solidFill>
                <a:latin typeface="Comic Sans MS"/>
              </a:rPr>
              <a:t>Schließt garantiert* schalldic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5bc3"/>
                </a:solidFill>
                <a:latin typeface="Comic Sans MS"/>
              </a:rPr>
              <a:t>*</a:t>
            </a:r>
            <a:r>
              <a:rPr b="0" lang="en-IE" sz="900" spc="-1" strike="noStrike">
                <a:solidFill>
                  <a:srgbClr val="ff5bc3"/>
                </a:solidFill>
                <a:latin typeface="Comic Sans MS"/>
              </a:rPr>
              <a:t>Die galaktischen Gesundheitsminister warnen: Das Lesen von Kleingedrucktem schadet Ihren Augen, Sehrezeptoren oder sonstiger Wahrnehmungsorganen.</a:t>
            </a:r>
            <a:r>
              <a:rPr b="0" lang="en-IE" sz="400" spc="-1" strike="noStrike">
                <a:solidFill>
                  <a:srgbClr val="ff5bc3"/>
                </a:solidFill>
                <a:latin typeface="Comic Sans MS"/>
              </a:rPr>
              <a:t> Bisher haben sich keine Kunden beschwert. Die Garantie gilt 2 Hapaxu-Jahre (11 Stamdardsekunden). Garantie verfällt beim Öffnen der Tür.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177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ff5bc3"/>
                </a:solidFill>
                <a:latin typeface="Comic Sans MS"/>
              </a:rPr>
              <a:t>Vogonisches Karaoke-Mikroph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5bc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5bc3"/>
                </a:solidFill>
                <a:latin typeface="Comic Sans MS"/>
              </a:rPr>
              <a:t>Spaß für den ganzen Familienverb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5bc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5bc3"/>
                </a:solidFill>
                <a:latin typeface="Comic Sans MS"/>
              </a:rPr>
              <a:t>Reißt Ihre Zuhörer garantiert 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5bc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5bc3"/>
                </a:solidFill>
                <a:latin typeface="Comic Sans MS"/>
              </a:rPr>
              <a:t>Integrierter Not-Aus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5bc3"/>
                </a:solidFill>
                <a:latin typeface="Comic Sans MS"/>
              </a:rPr>
              <a:t>*</a:t>
            </a:r>
            <a:r>
              <a:rPr b="0" lang="en-IE" sz="1400" spc="-1" strike="noStrike">
                <a:solidFill>
                  <a:srgbClr val="ff5bc3"/>
                </a:solidFill>
                <a:latin typeface="Comic Sans MS"/>
              </a:rPr>
              <a:t>Einmalig verwendb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kai</cp:lastModifiedBy>
  <dcterms:modified xsi:type="dcterms:W3CDTF">2009-01-09T01:19:41Z</dcterms:modified>
  <cp:revision>8</cp:revision>
  <dc:subject/>
  <dc:title>Folie 1</dc:title>
</cp:coreProperties>
</file>